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A7B4-336F-40A3-8620-8A68F105C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69BF-ED0D-46D3-8C23-6AA6894A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79A-C381-43B4-A4D9-4BC3A4C5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AC66-6473-4034-B91D-94B0DAE0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303A-99C2-4CF7-B110-392EAB5E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F48-3248-49D7-961E-A64DA924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22DF-8798-4F63-AB3A-1CDE7D03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E843-D840-4517-9F83-1DD6D5FA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130B-10B5-4783-8D2D-A54F9E2D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896-FC58-4F96-8D1D-EC7FDAD5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B0C-3CCF-4D48-B305-293CEE95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1E3-156A-4A47-87D2-9E525360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32FA-6891-48EC-9E80-124596C27517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а хемиј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ставна јединица 15 (петнаеста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981080" y="304920"/>
            <a:ext cx="485136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еницил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3"/>
          <p:cNvGraphicFramePr/>
          <p:nvPr/>
        </p:nvGraphicFramePr>
        <p:xfrm>
          <a:off x="2362320" y="1374840"/>
          <a:ext cx="4190760" cy="20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374840"/>
                    <a:ext cx="4190760" cy="20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685800" y="3886200"/>
          <a:ext cx="8001000" cy="265104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емијска и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а им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нз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 или 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хидроксибензил-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или 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т-2-ен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или 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=CH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хепт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 или 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(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-ам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хидро 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(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ноксиметилпеници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C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O-C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sr-C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есточлани хетероцикли са два хетеро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3"/>
          <p:cNvGraphicFramePr/>
          <p:nvPr/>
        </p:nvGraphicFramePr>
        <p:xfrm>
          <a:off x="1066680" y="1676520"/>
          <a:ext cx="7315200" cy="162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76520"/>
                    <a:ext cx="7315200" cy="16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5"/>
          <p:cNvSpPr/>
          <p:nvPr/>
        </p:nvSpPr>
        <p:spPr>
          <a:xfrm>
            <a:off x="1040760" y="3519360"/>
            <a:ext cx="72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иридазин                           пиримидин                                пир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955440" y="3824280"/>
            <a:ext cx="7471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pK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= 2,33                              pKa= 1,30                               pKa= 0,6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121400" y="4168800"/>
            <a:ext cx="74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t.k.= 20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C                        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t.k.= 12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C                             t.k.= 12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идазин или 1,2-ди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7696080" y="533520"/>
          <a:ext cx="10177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533520"/>
                    <a:ext cx="10177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9"/>
          <p:cNvGraphicFramePr/>
          <p:nvPr/>
        </p:nvGraphicFramePr>
        <p:xfrm>
          <a:off x="228600" y="2133720"/>
          <a:ext cx="8686800" cy="199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133720"/>
                    <a:ext cx="8686800" cy="19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1600200" y="762120"/>
          <a:ext cx="5562720" cy="48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762120"/>
                    <a:ext cx="5562720" cy="48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6"/>
          <p:cNvSpPr/>
          <p:nvPr/>
        </p:nvSpPr>
        <p:spPr>
          <a:xfrm>
            <a:off x="1600200" y="59436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лор у положају 4 је јако реактиван па се лако може замени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имидин или 1,3-ди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7620120" y="380880"/>
          <a:ext cx="10825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0120" y="380880"/>
                    <a:ext cx="10825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6"/>
          <p:cNvGraphicFramePr/>
          <p:nvPr/>
        </p:nvGraphicFramePr>
        <p:xfrm>
          <a:off x="457200" y="3809880"/>
          <a:ext cx="8229600" cy="17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809880"/>
                    <a:ext cx="82296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Text Box 8"/>
          <p:cNvSpPr/>
          <p:nvPr/>
        </p:nvSpPr>
        <p:spPr>
          <a:xfrm>
            <a:off x="315360" y="2286000"/>
            <a:ext cx="882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јједноставнија метода за формирање пиримидинског прстена је циклизациј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jедињења са следећим распоредом атома: </a:t>
            </a:r>
            <a:r>
              <a:rPr b="1" lang="sr-CS" sz="2000" spc="-1" strike="noStrike">
                <a:solidFill>
                  <a:srgbClr val="333399"/>
                </a:solidFill>
                <a:latin typeface="Times New Roman"/>
              </a:rPr>
              <a:t>С-С-С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sr-CS" sz="2000" spc="-1" strike="noStrike">
                <a:solidFill>
                  <a:srgbClr val="ff3300"/>
                </a:solidFill>
                <a:latin typeface="Times New Roman"/>
              </a:rPr>
              <a:t>N-C-N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600200" y="4267080"/>
            <a:ext cx="152280" cy="129564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457200" y="4267080"/>
            <a:ext cx="152280" cy="1295640"/>
          </a:xfrm>
          <a:prstGeom prst="rect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76320" y="563868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арбамид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1143360" y="3506760"/>
            <a:ext cx="11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малонс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3354120" y="5715000"/>
            <a:ext cx="130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барбитур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1371600" y="1066680"/>
          <a:ext cx="6324480" cy="20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6324480" cy="20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6"/>
          <p:cNvGraphicFramePr/>
          <p:nvPr/>
        </p:nvGraphicFramePr>
        <p:xfrm>
          <a:off x="685800" y="3733920"/>
          <a:ext cx="8153280" cy="204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733920"/>
                    <a:ext cx="8153280" cy="20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3"/>
          <p:cNvGraphicFramePr/>
          <p:nvPr/>
        </p:nvGraphicFramePr>
        <p:xfrm>
          <a:off x="380880" y="2895480"/>
          <a:ext cx="845820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845820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Text Box 6"/>
          <p:cNvSpPr/>
          <p:nvPr/>
        </p:nvSpPr>
        <p:spPr>
          <a:xfrm>
            <a:off x="524880" y="152388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тил групе у положајима 2, 4 и 6 су реактивне и могу се кондензов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а бензалдехидом, па се у овом случају добија 2,4,6-тристирилпиримид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Једињења са пиримидинским прстен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143000" y="1219320"/>
          <a:ext cx="670572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670572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6"/>
          <p:cNvGraphicFramePr/>
          <p:nvPr/>
        </p:nvGraphicFramePr>
        <p:xfrm>
          <a:off x="1981080" y="4159080"/>
          <a:ext cx="5029200" cy="209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4159080"/>
                    <a:ext cx="5029200" cy="20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8"/>
          <p:cNvSpPr/>
          <p:nvPr/>
        </p:nvSpPr>
        <p:spPr>
          <a:xfrm>
            <a:off x="1143000" y="34434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цитозин                              тимин                             урац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01840" y="6172200"/>
            <a:ext cx="24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арбитурна 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азин или 1,4-диа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7467480" y="533520"/>
          <a:ext cx="9622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533520"/>
                    <a:ext cx="9622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6"/>
          <p:cNvGraphicFramePr/>
          <p:nvPr/>
        </p:nvGraphicFramePr>
        <p:xfrm>
          <a:off x="990720" y="2209680"/>
          <a:ext cx="7162560" cy="243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2209680"/>
                    <a:ext cx="71625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9"/>
          <p:cNvSpPr/>
          <p:nvPr/>
        </p:nvSpPr>
        <p:spPr>
          <a:xfrm>
            <a:off x="762480" y="1600200"/>
            <a:ext cx="312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аминокарбонилно једињ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2516040" y="4876920"/>
            <a:ext cx="19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-дикарбонил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једињ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992160" y="48769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1,2-ди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1295280" y="2514600"/>
          <a:ext cx="10432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10432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9"/>
          <p:cNvSpPr/>
          <p:nvPr/>
        </p:nvSpPr>
        <p:spPr>
          <a:xfrm>
            <a:off x="1145880" y="50292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ипераз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12"/>
          <p:cNvGraphicFramePr/>
          <p:nvPr/>
        </p:nvGraphicFramePr>
        <p:xfrm>
          <a:off x="3276720" y="3048120"/>
          <a:ext cx="1066680" cy="19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048120"/>
                    <a:ext cx="10666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 Box 13"/>
          <p:cNvSpPr/>
          <p:nvPr/>
        </p:nvSpPr>
        <p:spPr>
          <a:xfrm>
            <a:off x="3277440" y="502920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орфо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3429360" y="1349280"/>
            <a:ext cx="5487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ва четири С атома пиразина су еквивален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лектрофилној супституцији подлеже само а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у присутне електрон-донорске гру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стенови са два различита хетероатома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оксазол или 1,2-окс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3"/>
          <p:cNvGraphicFramePr/>
          <p:nvPr/>
        </p:nvGraphicFramePr>
        <p:xfrm>
          <a:off x="838080" y="2362320"/>
          <a:ext cx="7315200" cy="374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2320"/>
                    <a:ext cx="7315200" cy="37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7467480" y="838080"/>
          <a:ext cx="1143000" cy="108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838080"/>
                    <a:ext cx="114300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дензовани хетероцикли са два и више хетеро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урин или имидазоло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[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,5d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]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иримидин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4"/>
          <p:cNvGraphicFramePr/>
          <p:nvPr/>
        </p:nvGraphicFramePr>
        <p:xfrm>
          <a:off x="2057400" y="2514600"/>
          <a:ext cx="464832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514600"/>
                    <a:ext cx="464832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6"/>
          <p:cNvSpPr/>
          <p:nvPr/>
        </p:nvSpPr>
        <p:spPr>
          <a:xfrm>
            <a:off x="2793960" y="4129200"/>
            <a:ext cx="33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7H                                        9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685800" y="5105520"/>
            <a:ext cx="883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урински систем се јавља у два таутомерна облика: 7Н и 9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У кристалном стању пурински систем постоји као 7Н таутоме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ок се у раствору налазе 7Н и 9Н таутомери у приближно једнаким количи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609480" y="1447920"/>
          <a:ext cx="7925040" cy="45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47920"/>
                    <a:ext cx="7925040" cy="45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6"/>
          <p:cNvSpPr/>
          <p:nvPr/>
        </p:nvSpPr>
        <p:spPr>
          <a:xfrm>
            <a:off x="4421520" y="220968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начин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345200" y="4495680"/>
            <a:ext cx="95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Times New Roman"/>
              </a:rPr>
              <a:t>начин 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окраћна киселина (дериват пур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3046320" y="114300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2,6,8-трихидроксипу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6"/>
          <p:cNvGraphicFramePr/>
          <p:nvPr/>
        </p:nvGraphicFramePr>
        <p:xfrm>
          <a:off x="1219320" y="1447920"/>
          <a:ext cx="6629400" cy="491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6629400" cy="49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Text Box 7"/>
          <p:cNvSpPr/>
          <p:nvPr/>
        </p:nvSpPr>
        <p:spPr>
          <a:xfrm>
            <a:off x="3277440" y="640080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окс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еривати пу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3"/>
          <p:cNvGraphicFramePr/>
          <p:nvPr/>
        </p:nvGraphicFramePr>
        <p:xfrm>
          <a:off x="228600" y="1905120"/>
          <a:ext cx="8472600" cy="24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05120"/>
                    <a:ext cx="8472600" cy="24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5"/>
          <p:cNvSpPr/>
          <p:nvPr/>
        </p:nvSpPr>
        <p:spPr>
          <a:xfrm>
            <a:off x="1115280" y="4433760"/>
            <a:ext cx="67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офилин                         теобромин                              кофе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610560" y="480060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1,3-диметилксан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3277800" y="480060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3,7-диметилксан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6019920" y="4800600"/>
            <a:ext cx="26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1,3,7-триметилксант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теридин или пирази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[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2,3-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]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иримиди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990720" y="2209680"/>
          <a:ext cx="7419960" cy="15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741996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5"/>
          <p:cNvSpPr/>
          <p:nvPr/>
        </p:nvSpPr>
        <p:spPr>
          <a:xfrm>
            <a:off x="762480" y="388620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4,5-диаминопиримид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3812760" y="388620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глиокс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Фолна киселина (дериват птеридин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228600" y="2133720"/>
          <a:ext cx="8628120" cy="24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133720"/>
                    <a:ext cx="862812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6"/>
          <p:cNvSpPr/>
          <p:nvPr/>
        </p:nvSpPr>
        <p:spPr>
          <a:xfrm>
            <a:off x="289080" y="4267080"/>
            <a:ext cx="260640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амино-4-хидроксиптерид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2212560" y="4800600"/>
            <a:ext cx="17960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птероинска кисе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0"/>
          <p:cNvSpPr/>
          <p:nvPr/>
        </p:nvSpPr>
        <p:spPr>
          <a:xfrm flipH="1">
            <a:off x="304560" y="4952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"/>
          <p:cNvSpPr/>
          <p:nvPr/>
        </p:nvSpPr>
        <p:spPr>
          <a:xfrm>
            <a:off x="4038480" y="4952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429000" y="4267080"/>
            <a:ext cx="22892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-аминобензоева кисе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6404400" y="4267080"/>
            <a:ext cx="188460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глутаминска кисел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048120" y="5257800"/>
            <a:ext cx="379116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</a:rPr>
              <a:t>фолна киселина (птероиглутаминска киселин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858000" y="5410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H="1">
            <a:off x="30492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езонантне структуре изокс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533520" y="1981080"/>
          <a:ext cx="777240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777240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Rectangle 6"/>
          <p:cNvSpPr/>
          <p:nvPr/>
        </p:nvSpPr>
        <p:spPr>
          <a:xfrm>
            <a:off x="457200" y="1981080"/>
            <a:ext cx="8153280" cy="129564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" y="3429000"/>
            <a:ext cx="5105520" cy="12193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30280" y="5105520"/>
            <a:ext cx="710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во једињење је хибрид више резонанционих структура. Присутни с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333399"/>
                </a:solidFill>
                <a:latin typeface="Times New Roman"/>
              </a:rPr>
              <a:t>резонанциони облици слични фурану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резонанциони облици слични пирид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0"/>
          <p:cNvGraphicFramePr/>
          <p:nvPr/>
        </p:nvGraphicFramePr>
        <p:xfrm>
          <a:off x="7696080" y="3657600"/>
          <a:ext cx="83340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3657600"/>
                    <a:ext cx="8334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Oval 12"/>
          <p:cNvSpPr/>
          <p:nvPr/>
        </p:nvSpPr>
        <p:spPr>
          <a:xfrm>
            <a:off x="7848720" y="3581280"/>
            <a:ext cx="228600" cy="228600"/>
          </a:xfrm>
          <a:prstGeom prst="ellipse">
            <a:avLst/>
          </a:prstGeom>
          <a:noFill/>
          <a:ln w="3816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7696080" y="3962520"/>
            <a:ext cx="228600" cy="22860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6098040" y="358128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напад електроф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6021000" y="3962520"/>
            <a:ext cx="137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</a:rPr>
              <a:t>напад нуклеофи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6"/>
          <p:cNvSpPr/>
          <p:nvPr/>
        </p:nvSpPr>
        <p:spPr>
          <a:xfrm>
            <a:off x="74674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7"/>
          <p:cNvSpPr/>
          <p:nvPr/>
        </p:nvSpPr>
        <p:spPr>
          <a:xfrm>
            <a:off x="739152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ксазол или 1,3-окс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762120" y="1905120"/>
          <a:ext cx="7543800" cy="138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05120"/>
                    <a:ext cx="7543800" cy="13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6"/>
          <p:cNvGraphicFramePr/>
          <p:nvPr/>
        </p:nvGraphicFramePr>
        <p:xfrm>
          <a:off x="2743200" y="3809880"/>
          <a:ext cx="3276720" cy="16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43200" y="3809880"/>
                    <a:ext cx="327672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8"/>
          <p:cNvSpPr/>
          <p:nvPr/>
        </p:nvSpPr>
        <p:spPr>
          <a:xfrm>
            <a:off x="2597760" y="5791320"/>
            <a:ext cx="317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ома слаба база pK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= 13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9"/>
          <p:cNvGraphicFramePr/>
          <p:nvPr/>
        </p:nvGraphicFramePr>
        <p:xfrm>
          <a:off x="7620120" y="380880"/>
          <a:ext cx="981000" cy="10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380880"/>
                    <a:ext cx="98100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оксаз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3"/>
          <p:cNvGraphicFramePr/>
          <p:nvPr/>
        </p:nvGraphicFramePr>
        <p:xfrm>
          <a:off x="1828800" y="1600200"/>
          <a:ext cx="571500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00200"/>
                    <a:ext cx="571500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6"/>
          <p:cNvGraphicFramePr/>
          <p:nvPr/>
        </p:nvGraphicFramePr>
        <p:xfrm>
          <a:off x="1905120" y="3124080"/>
          <a:ext cx="3124080" cy="14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3124080"/>
                    <a:ext cx="312408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9"/>
          <p:cNvGraphicFramePr/>
          <p:nvPr/>
        </p:nvGraphicFramePr>
        <p:xfrm>
          <a:off x="1828800" y="5029200"/>
          <a:ext cx="609588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8800" y="5029200"/>
                    <a:ext cx="609588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2"/>
          <p:cNvSpPr/>
          <p:nvPr/>
        </p:nvSpPr>
        <p:spPr>
          <a:xfrm>
            <a:off x="306000" y="19810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06000" y="38862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4"/>
          <p:cNvSpPr/>
          <p:nvPr/>
        </p:nvSpPr>
        <p:spPr>
          <a:xfrm>
            <a:off x="306000" y="541008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Times New Roman"/>
              </a:rPr>
              <a:t>положај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5"/>
          <p:cNvSpPr/>
          <p:nvPr/>
        </p:nvSpPr>
        <p:spPr>
          <a:xfrm>
            <a:off x="2286000" y="1600200"/>
            <a:ext cx="380880" cy="38088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6477120" y="2286000"/>
            <a:ext cx="38088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4419720" y="4038480"/>
            <a:ext cx="38088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8"/>
          <p:cNvSpPr/>
          <p:nvPr/>
        </p:nvSpPr>
        <p:spPr>
          <a:xfrm>
            <a:off x="7315200" y="5562720"/>
            <a:ext cx="380880" cy="45720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9"/>
          <p:cNvSpPr/>
          <p:nvPr/>
        </p:nvSpPr>
        <p:spPr>
          <a:xfrm>
            <a:off x="1752480" y="4800600"/>
            <a:ext cx="6477120" cy="16002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3"/>
          <p:cNvGraphicFramePr/>
          <p:nvPr/>
        </p:nvGraphicFramePr>
        <p:xfrm>
          <a:off x="3581280" y="1371600"/>
          <a:ext cx="8874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1371600"/>
                    <a:ext cx="8874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0"/>
          <p:cNvGraphicFramePr/>
          <p:nvPr/>
        </p:nvGraphicFramePr>
        <p:xfrm>
          <a:off x="685800" y="3809880"/>
          <a:ext cx="7848720" cy="178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809880"/>
                    <a:ext cx="784872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Oval 11"/>
          <p:cNvSpPr/>
          <p:nvPr/>
        </p:nvSpPr>
        <p:spPr>
          <a:xfrm>
            <a:off x="3505320" y="1752480"/>
            <a:ext cx="304560" cy="30492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4267080" y="1752480"/>
            <a:ext cx="304920" cy="304920"/>
          </a:xfrm>
          <a:prstGeom prst="ellipse">
            <a:avLst/>
          </a:prstGeom>
          <a:noFill/>
          <a:ln w="2844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14400" y="167652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апад електроф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97180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5106240" y="1676520"/>
            <a:ext cx="19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напад нуклеоф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6"/>
          <p:cNvSpPr/>
          <p:nvPr/>
        </p:nvSpPr>
        <p:spPr>
          <a:xfrm flipH="1">
            <a:off x="464832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7"/>
          <p:cNvSpPr/>
          <p:nvPr/>
        </p:nvSpPr>
        <p:spPr>
          <a:xfrm>
            <a:off x="2665800" y="297180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Diels-Alder-ова реа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злакто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2209680" y="1676520"/>
          <a:ext cx="4114800" cy="10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76520"/>
                    <a:ext cx="411480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5"/>
          <p:cNvGraphicFramePr/>
          <p:nvPr/>
        </p:nvGraphicFramePr>
        <p:xfrm>
          <a:off x="990720" y="3581280"/>
          <a:ext cx="75438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581280"/>
                    <a:ext cx="75438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7"/>
          <p:cNvSpPr/>
          <p:nvPr/>
        </p:nvSpPr>
        <p:spPr>
          <a:xfrm>
            <a:off x="1755720" y="5867280"/>
            <a:ext cx="59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Настају циклизацијом ацилованих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минокисе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519560" y="2797200"/>
            <a:ext cx="60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Азлактон представља оксо облик 5-хидроксиоксазо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отиазол или 1,2-т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533520" y="2362320"/>
          <a:ext cx="815328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15328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5"/>
          <p:cNvSpPr/>
          <p:nvPr/>
        </p:nvSpPr>
        <p:spPr>
          <a:xfrm>
            <a:off x="1140840" y="3886200"/>
            <a:ext cx="722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Електрофилна супституција иде само под драстичним усл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7467480" y="609480"/>
          <a:ext cx="1219320" cy="116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7480" y="609480"/>
                    <a:ext cx="1219320" cy="11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Тиазол или 1,3-тиаз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7315200" y="533520"/>
          <a:ext cx="11224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533520"/>
                    <a:ext cx="11224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9"/>
          <p:cNvGraphicFramePr/>
          <p:nvPr/>
        </p:nvGraphicFramePr>
        <p:xfrm>
          <a:off x="533520" y="2209680"/>
          <a:ext cx="8153280" cy="32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09680"/>
                    <a:ext cx="81532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5:37:38Z</dcterms:created>
  <dc:creator>FullNameHere</dc:creator>
  <dc:description/>
  <dc:language>en-US</dc:language>
  <cp:lastModifiedBy>Гордана Радић</cp:lastModifiedBy>
  <dcterms:modified xsi:type="dcterms:W3CDTF">2016-09-06T07:35:36Z</dcterms:modified>
  <cp:revision>30</cp:revision>
  <dc:subject/>
  <dc:title>Slide 1</dc:title>
</cp:coreProperties>
</file>